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791-986A-4A46-BB39-7C2A2B5A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BA8-315F-44BE-AF3B-E5A3C07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928-7734-4649-98A6-E1CA530D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B71-0200-4611-8A43-791B4CD1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13C-7095-4426-BD0E-2E5FC30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F33-6B4E-447F-A5C0-0BF88F56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A43-3ED4-4F7D-AF92-62B44DD4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C53-77E8-40C8-BD67-3EA58B9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DCB-914D-40BD-8EC9-42592026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902-2D03-4120-B64F-72954EA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7FE-ECB1-465F-A4BA-684EA06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0B4-3334-4702-9726-2CC5A72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340A-3BAE-47D0-9DBF-65FC98A6DA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45" name="Rectangle 41"/>
            <p:cNvSpPr/>
            <p:nvPr/>
          </p:nvSpPr>
          <p:spPr>
            <a:xfrm>
              <a:off x="-576360" y="1333440"/>
              <a:ext cx="9720360" cy="172044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576000" y="3042360"/>
              <a:ext cx="9720360" cy="1106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1" name="图片 23" descr="人物.png"/>
            <p:cNvPicPr/>
            <p:nvPr/>
          </p:nvPicPr>
          <p:blipFill>
            <a:blip r:embed="rId5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4" descr="波浪前1.png"/>
          <p:cNvPicPr/>
          <p:nvPr/>
        </p:nvPicPr>
        <p:blipFill>
          <a:blip r:embed="rId6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55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58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1" name="图片 26" descr="人物倒影.png"/>
            <p:cNvPicPr/>
            <p:nvPr/>
          </p:nvPicPr>
          <p:blipFill>
            <a:blip r:embed="rId7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0" descr="图片2.png"/>
          <p:cNvPicPr/>
          <p:nvPr/>
        </p:nvPicPr>
        <p:blipFill>
          <a:blip r:embed="rId8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64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彩虹1"/>
          <p:cNvPicPr/>
          <p:nvPr/>
        </p:nvPicPr>
        <p:blipFill>
          <a:blip r:embed="rId9"/>
          <a:stretch/>
        </p:blipFill>
        <p:spPr>
          <a:xfrm>
            <a:off x="-1189080" y="692280"/>
            <a:ext cx="10974600" cy="255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1"/>
          <p:cNvPicPr/>
          <p:nvPr/>
        </p:nvPicPr>
        <p:blipFill>
          <a:blip r:embed="rId10"/>
          <a:stretch/>
        </p:blipFill>
        <p:spPr>
          <a:xfrm>
            <a:off x="684360" y="177336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家书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69" name="神秘园之歌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ars.mp3" descr=""/>
          <p:cNvPicPr/>
          <p:nvPr/>
        </p:nvPicPr>
        <p:blipFill>
          <a:blip r:embed="rId2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诗歌副本"/>
          <p:cNvPicPr/>
          <p:nvPr/>
        </p:nvPicPr>
        <p:blipFill>
          <a:blip r:embed="rId3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教师寄语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校长寄语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5T03:30:33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